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4.png" ContentType="image/png"/>
  <Override PartName="/ppt/media/image24.png" ContentType="image/png"/>
  <Override PartName="/ppt/media/image23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9.png" ContentType="image/png"/>
  <Override PartName="/ppt/media/image15.png" ContentType="image/png"/>
  <Override PartName="/ppt/media/image14.jpeg" ContentType="image/jpeg"/>
  <Override PartName="/ppt/media/image2.png" ContentType="image/png"/>
  <Override PartName="/ppt/media/image22.jpeg" ContentType="image/jpeg"/>
  <Override PartName="/ppt/media/image1.jpeg" ContentType="image/jpeg"/>
  <Override PartName="/ppt/media/image17.jpeg" ContentType="image/jpeg"/>
  <Override PartName="/ppt/media/image3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3F87-3AE9-4247-A161-A2B411470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0043-3B60-4CB5-A351-1AD5330FF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40E8-2B3D-449A-908F-272338837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6C95-46DD-4470-A67F-531D21A78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E1A4C-4207-481A-B8B8-69ACEDCBD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C0E0E-727E-4100-9EF9-AA1FF0CA3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CAFE8-C916-457E-8A5F-CFA3FDB0C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28478-1E54-40D9-AAEC-9540E101C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1B6EB-1621-4633-AC0E-22D0CE463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07CCC-07B0-4EAD-ABF8-FB75B12CD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A5B0F-D0CA-4045-9128-6EFDD3A23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98A6-21A3-4E47-82CE-034F6B166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D440A-3662-4388-A627-3B338599A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79ECF-5FDE-44EF-A221-68CE04185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7B685-844B-4F7F-9F3C-EFECF2353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36F16-7A74-473B-8A98-5D6ABE1DE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5ABC4-0411-4244-A725-BB09B5575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5F521-8FB6-49D4-BB92-365646C01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4309C-F118-44E9-87D7-7909B9C28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C584C-46A2-4CEF-AA43-084BB026D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E49DC-037F-4698-BE44-B8E4D657A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1B985-A8CC-4DAB-A42C-B06BF421E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45E8-D80C-48E8-ABD6-18205A701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7B5B9-E1F1-42DB-AFB4-6076023ED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2E51E-F59D-457D-B884-771E51509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B6CE9-01BD-4936-8F1D-732BB7504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451A9-5B39-4A43-8DE5-E9A9DE472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15F6A-B442-4195-9882-6DD32EF8D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E1E1C-4481-42B8-8AC6-81448765A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5169C-0F45-4ED3-914E-402B0692B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13730-AF79-4FFA-B54F-9C7FC95CA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93E37-F486-431D-B3EB-332599D8F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E7791-9DBE-449D-9F42-C2D37D54E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80D4-D6EA-49D6-BF82-228A6F164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332B1-CF72-453C-AD45-307C212C1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570D3-A373-4757-85CC-948CEF6DA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A14EC-84FC-430E-9F54-255B1E6D4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AB5D9-5B95-444B-8EAF-855CABD07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DE32D-63F4-4F77-B285-67495DB29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9150B-31D0-406A-BA20-7E7A9C907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CAF17-5E52-4464-8449-1D1A3541C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C40A9-0E4A-49F2-90C0-CCD16247D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BA96C3-A785-472E-99A5-F9BCE2224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5EE0E4-5F7B-4C44-AE7C-3C5AB5F62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6C34-DEFB-4B3F-B9A3-27FFACA0F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89F626-8F89-42E0-9551-20F07BF04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37EB65-1495-4270-BB44-A13D8AE24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5B823B-E6B6-41D7-850F-DBB444C67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B5EFD3-4B87-47E6-8993-C87614F41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D00530-683B-4C2E-BBA9-2572FE5A7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87A6A4-2901-47D4-8DF5-8E2AD4C00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49B055-1958-4DA6-B879-9A98D92D2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0DB273-FF2A-4C9D-9A98-9E7837C05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F952B5-DBF1-4087-A37B-2B4E71202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44B6B6-ACE7-4993-AF6C-BAEE8E58A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A09E-0DD1-49A0-B2D0-A03EADDD7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0630CF-50D4-4D41-B729-AC34035B2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9FD5D8-8EA3-4FC8-9430-1F31BCC8C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9501B4-F4D2-481B-B5E7-A81C62A31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466D22-4878-414A-840F-CB05C8D7A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720CBD-DD9D-4D67-BEA0-346F23831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78B70E-DC65-49EF-945A-89BAC7C79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27A1BD-306D-44FA-B6D3-A32682471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6EF82A-6329-4B52-BDE4-3D36E6CE5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3C9043-E5D7-481C-8E0D-991C34878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E3B62F-05B1-41E6-AB9B-B6BC4FCF5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E165-2884-484D-B4EC-02CF99B22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20E1F3-15CA-4129-8440-45E17C1A7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36F31D-B49B-45A5-8775-79EEC4CF1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FBB13B-A489-473F-A560-8BA37CD44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5BBE22-FC3F-4C08-BD2B-D57830533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8DAD62-5CF6-4EA0-BE39-F1CFAACCB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1259F2-FAF9-4508-AA9C-66C38EA60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D30BF4-3787-41D5-9800-52F17B70D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16D01D-B975-4914-A7A6-ACBEBCD7D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FAC798-829F-4754-9390-38FBA3B4A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C49920-9E62-4CD3-BB0D-DDA7C59A5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6502-F848-4C0E-BAFA-F67C38A20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C0843C-A328-4115-8F6D-D2B559C3E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66F80D-B45E-4E1B-9A66-FE1C23BEF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A1EE98-C815-4D20-A0E3-AAF81D481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4100A7-63DB-456A-8786-7BB012AA8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FF877D-AEAC-4AEA-94DE-2BF587461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B906-A1D2-43BC-BD85-4EB15AC63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0298E-2419-4669-AB97-9FBDCB37589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367AE-8F7E-4764-9670-2A1095761AB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E43C8-9DF3-4177-BEC3-BFC776B4072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F429D-3E34-4440-84D4-5279F1B9C65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540CF-7B3D-421A-801D-0650AF94EFD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57AE9-C33D-4E47-A215-11180F0D2DE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90A4A-40FD-4C78-ACDA-B73BABC0B3A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image" Target="../media/image14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hyperlink" Target="file:///&#1076;&#1080;&#1072;&#1075;&#1085;&#1086;&#1089;&#1090;&#1080;&#1095;&#1077;&#1089;&#1082;&#1072;&#1103;%20&#1082;&#1072;&#1088;&#1090;&#1072;.doc" TargetMode="External"/><Relationship Id="rId4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1142640"/>
            <a:ext cx="740700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3900"/>
            </a:br>
            <a:br>
              <a:rPr sz="3900"/>
            </a:br>
            <a:r>
              <a:rPr b="0" lang="ru-RU" sz="2400" spc="-1" strike="noStrike">
                <a:solidFill>
                  <a:srgbClr val="572314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428480"/>
            <a:ext cx="7407000" cy="28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64305"/>
                </a:solidFill>
                <a:latin typeface="Corbel"/>
              </a:rPr>
              <a:t>Повышение  качества знаний выпускников своей школы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0" name=""/>
          <p:cNvGraphicFramePr/>
          <p:nvPr/>
        </p:nvGraphicFramePr>
        <p:xfrm>
          <a:off x="142920" y="428760"/>
          <a:ext cx="8643960" cy="6143400"/>
        </p:xfrm>
        <a:graphic>
          <a:graphicData uri="http://schemas.openxmlformats.org/drawingml/2006/table">
            <a:tbl>
              <a:tblPr/>
              <a:tblGrid>
                <a:gridCol w="325440"/>
                <a:gridCol w="2550960"/>
                <a:gridCol w="204840"/>
                <a:gridCol w="206280"/>
                <a:gridCol w="204840"/>
                <a:gridCol w="204840"/>
                <a:gridCol w="204840"/>
                <a:gridCol w="204840"/>
                <a:gridCol w="206280"/>
                <a:gridCol w="204840"/>
                <a:gridCol w="204840"/>
                <a:gridCol w="204840"/>
                <a:gridCol w="204840"/>
                <a:gridCol w="206280"/>
                <a:gridCol w="204840"/>
                <a:gridCol w="204480"/>
                <a:gridCol w="204840"/>
                <a:gridCol w="204840"/>
                <a:gridCol w="206280"/>
                <a:gridCol w="204840"/>
                <a:gridCol w="204840"/>
                <a:gridCol w="204840"/>
                <a:gridCol w="204840"/>
                <a:gridCol w="206280"/>
                <a:gridCol w="204840"/>
                <a:gridCol w="204840"/>
                <a:gridCol w="204840"/>
                <a:gridCol w="206280"/>
                <a:gridCol w="204840"/>
                <a:gridCol w="228600"/>
              </a:tblGrid>
              <a:tr h="631800"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шибок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ификация ошибок, допущенных в работ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7"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учащегося (его номер в классном журнале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3640"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е кол-во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ющее кол-во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0160"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8360"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ность: «5», «4», «3», «2», «0».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пустили ошибки в мат. диктант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9800"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ильно решили задачу №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шибки в ходе решения задач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шибки в вычислен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ильно решили задачу №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9800"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шибки в ходе решения задач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720"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шибки в вычислен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пустили ошибки в решении пример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на слож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на вычит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9800"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на умнож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720"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на дел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9800"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на порядок действ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в решении уравн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к сравнения чисел, выраж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иницы измере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9800"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ометрический материа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и за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ч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ч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9800"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720"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ч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9800"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1" name="Rectangle 1"/>
          <p:cNvSpPr/>
          <p:nvPr/>
        </p:nvSpPr>
        <p:spPr>
          <a:xfrm>
            <a:off x="1214280" y="5833800"/>
            <a:ext cx="742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7914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Применение ИКТ способствует повышению качества      образования</a:t>
            </a:r>
            <a:r>
              <a:rPr b="0" lang="ru-RU" sz="2200" spc="-1" strike="noStrike">
                <a:solidFill>
                  <a:srgbClr val="572314"/>
                </a:solidFill>
                <a:latin typeface="Corbel"/>
              </a:rPr>
              <a:t>.</a:t>
            </a:r>
            <a:br>
              <a:rPr sz="2200"/>
            </a:br>
            <a:r>
              <a:rPr b="0" lang="ru-RU" sz="2200" spc="-1" strike="noStrike">
                <a:solidFill>
                  <a:srgbClr val="572314"/>
                </a:solidFill>
                <a:latin typeface="Corbel"/>
              </a:rPr>
              <a:t>Использование ИКТ позволяет проводить уроки:</a:t>
            </a:r>
            <a:endParaRPr b="0" lang="en-US" sz="2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1434960" y="1999800"/>
            <a:ext cx="749952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На высоком эстетическом и эмоциональном уровне (музыка, анимация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Обеспечивает наглядность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ривлекает большое количество дидактического материал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овышает объём выполняемой работы на уроке в 1,5-2 раз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Обеспечивает высокую степень дифференциации обучения (индивидуальный подход к ученику, применяя разноуровневые задания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72314"/>
                </a:solidFill>
                <a:latin typeface="Corbel"/>
              </a:rPr>
              <a:t>Для автоматизации вычислительных навыков используем математические тренажеры Узоровой </a:t>
            </a:r>
            <a:endParaRPr b="0" lang="en-US" sz="25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95" name="Picture 7" descr="C:\Documents and Settings\Admin\Рабочий стол\чудики\Изображение 003.jpg"/>
          <p:cNvPicPr/>
          <p:nvPr/>
        </p:nvPicPr>
        <p:blipFill>
          <a:blip r:embed="rId1"/>
          <a:stretch/>
        </p:blipFill>
        <p:spPr>
          <a:xfrm>
            <a:off x="1785960" y="1714680"/>
            <a:ext cx="6429240" cy="47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2314"/>
                </a:solidFill>
                <a:latin typeface="Corbel"/>
              </a:rPr>
              <a:t>Предметные недели цель, которых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Corbel"/>
              </a:rPr>
              <a:t> воспитание познавательного интереса к предметам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97" name="Picture 2" descr="D:\марина\чудики\Изображение 042.jpg"/>
          <p:cNvPicPr/>
          <p:nvPr/>
        </p:nvPicPr>
        <p:blipFill>
          <a:blip r:embed="rId1"/>
          <a:stretch/>
        </p:blipFill>
        <p:spPr>
          <a:xfrm>
            <a:off x="357120" y="2357280"/>
            <a:ext cx="3857760" cy="389124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" descr="D:\марина\чудики\IMG_3721.jpg"/>
          <p:cNvPicPr/>
          <p:nvPr/>
        </p:nvPicPr>
        <p:blipFill>
          <a:blip r:embed="rId2"/>
          <a:stretch/>
        </p:blipFill>
        <p:spPr>
          <a:xfrm>
            <a:off x="4143240" y="1500120"/>
            <a:ext cx="423072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500120" y="42840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2314"/>
                </a:solidFill>
                <a:latin typeface="Georgia"/>
              </a:rPr>
              <a:t>Работа  </a:t>
            </a:r>
            <a:br>
              <a:rPr sz="3000"/>
            </a:br>
            <a:r>
              <a:rPr b="1" lang="ru-RU" sz="3000" spc="-1" strike="noStrike">
                <a:solidFill>
                  <a:srgbClr val="572314"/>
                </a:solidFill>
                <a:latin typeface="Georgia"/>
              </a:rPr>
              <a:t>по  усвоению  норм орфоэпии</a:t>
            </a:r>
            <a:endParaRPr b="0" lang="en-US" sz="3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0" name="TextBox 7"/>
          <p:cNvSpPr/>
          <p:nvPr/>
        </p:nvSpPr>
        <p:spPr>
          <a:xfrm>
            <a:off x="785880" y="1928880"/>
            <a:ext cx="77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1. Составление орфоэпического минимума для учащихся начальной школы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1" name="TextBox 8"/>
          <p:cNvSpPr/>
          <p:nvPr/>
        </p:nvSpPr>
        <p:spPr>
          <a:xfrm>
            <a:off x="928800" y="3000240"/>
            <a:ext cx="7500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2. Распределение слов понедельно (слова даются в алфавитном порядке)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2" name="TextBox 9"/>
          <p:cNvSpPr/>
          <p:nvPr/>
        </p:nvSpPr>
        <p:spPr>
          <a:xfrm>
            <a:off x="928800" y="400068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3. Создание демонстрационно-наглядного материала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3" name="TextBox 10"/>
          <p:cNvSpPr/>
          <p:nvPr/>
        </p:nvSpPr>
        <p:spPr>
          <a:xfrm>
            <a:off x="1000080" y="4786200"/>
            <a:ext cx="77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4. Выработка механизма  работы (правил словарной игры)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4" name="TextBox 11"/>
          <p:cNvSpPr/>
          <p:nvPr/>
        </p:nvSpPr>
        <p:spPr>
          <a:xfrm>
            <a:off x="1000080" y="585792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5.Реализация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2314"/>
                </a:solidFill>
                <a:latin typeface="Georgia"/>
              </a:rPr>
              <a:t>Игра «Волшебный экран»</a:t>
            </a:r>
            <a:endParaRPr b="0" lang="en-US" sz="3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6" name="TextBox 3"/>
          <p:cNvSpPr/>
          <p:nvPr/>
        </p:nvSpPr>
        <p:spPr>
          <a:xfrm>
            <a:off x="2143080" y="1714680"/>
            <a:ext cx="7000920" cy="43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Цель: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отработка норм орфоэпии на материалах экзаменационного словника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Задачи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ts val="2599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оздание речевой среды, способствующей формированию навыков литературного произношения через пример, показ, слушание правильного произношения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ts val="2599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ривлечение семьи и социума к орфоэпической работе для создания благоприятной речевой среды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Результат: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ts val="2599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оздание благоприятной речевой среды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ts val="2599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усвоение намеченного орфоэпического минимума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Прямоугольник 4"/>
          <p:cNvSpPr/>
          <p:nvPr/>
        </p:nvSpPr>
        <p:spPr>
          <a:xfrm>
            <a:off x="142920" y="5286240"/>
            <a:ext cx="1928880" cy="135756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8" name="Скругленный прямоугольник 5"/>
          <p:cNvSpPr/>
          <p:nvPr/>
        </p:nvSpPr>
        <p:spPr>
          <a:xfrm>
            <a:off x="357120" y="5500800"/>
            <a:ext cx="1214640" cy="92844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9" name="Блок-схема: узел 6"/>
          <p:cNvSpPr/>
          <p:nvPr/>
        </p:nvSpPr>
        <p:spPr>
          <a:xfrm>
            <a:off x="1714680" y="5715000"/>
            <a:ext cx="142560" cy="142920"/>
          </a:xfrm>
          <a:prstGeom prst="flowChartConnector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0" name="Блок-схема: узел 7"/>
          <p:cNvSpPr/>
          <p:nvPr/>
        </p:nvSpPr>
        <p:spPr>
          <a:xfrm>
            <a:off x="1714680" y="6000840"/>
            <a:ext cx="142560" cy="142920"/>
          </a:xfrm>
          <a:prstGeom prst="flowChartConnector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Блок-схема: узел 9"/>
          <p:cNvSpPr/>
          <p:nvPr/>
        </p:nvSpPr>
        <p:spPr>
          <a:xfrm>
            <a:off x="1714680" y="6286680"/>
            <a:ext cx="142560" cy="142560"/>
          </a:xfrm>
          <a:prstGeom prst="flowChartConnector">
            <a:avLst/>
          </a:prstGeom>
          <a:solidFill>
            <a:srgbClr val="2363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2" name="Прямоугольник 10"/>
          <p:cNvSpPr/>
          <p:nvPr/>
        </p:nvSpPr>
        <p:spPr>
          <a:xfrm>
            <a:off x="428760" y="5786280"/>
            <a:ext cx="1000080" cy="42876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анты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Прямая соединительная линия 12"/>
          <p:cNvSpPr/>
          <p:nvPr/>
        </p:nvSpPr>
        <p:spPr>
          <a:xfrm flipV="1">
            <a:off x="785880" y="5857920"/>
            <a:ext cx="71280" cy="7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42960" y="571680"/>
            <a:ext cx="804384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c00000"/>
                </a:solidFill>
                <a:latin typeface="Corbel"/>
              </a:rPr>
              <a:t>Виды чтения в зависимости от его скорости: 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642960" y="1928880"/>
          <a:ext cx="7715160" cy="4022640"/>
        </p:xfrm>
        <a:graphic>
          <a:graphicData uri="http://schemas.openxmlformats.org/drawingml/2006/table">
            <a:tbl>
              <a:tblPr/>
              <a:tblGrid>
                <a:gridCol w="3857760"/>
                <a:gridCol w="38574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Разновидности чтени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b80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Количество слов в минуту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b80a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Скорочте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Более 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cc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Чтение в темпе скороговорк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180 – 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e7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Оптимальное чте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120 – 15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cc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Нормальное чте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80 –9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e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Прямоугольник 3" descr=""/>
          <p:cNvPicPr/>
          <p:nvPr/>
        </p:nvPicPr>
        <p:blipFill>
          <a:blip r:embed="rId1"/>
          <a:stretch/>
        </p:blipFill>
        <p:spPr>
          <a:xfrm>
            <a:off x="1206360" y="1305000"/>
            <a:ext cx="6443640" cy="279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28480" y="214200"/>
            <a:ext cx="749772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Georgia"/>
              </a:rPr>
              <a:t>Алгоритм деятельности </a:t>
            </a:r>
            <a:br>
              <a:rPr sz="2800"/>
            </a:br>
            <a:r>
              <a:rPr b="1" lang="ru-RU" sz="2800" spc="-1" strike="noStrike">
                <a:solidFill>
                  <a:srgbClr val="572314"/>
                </a:solidFill>
                <a:latin typeface="Georgia"/>
              </a:rPr>
              <a:t>ШМО учителей начальных классов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овышению качества знаний выпускников</a:t>
            </a: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1" name="TextBox 3"/>
          <p:cNvSpPr/>
          <p:nvPr/>
        </p:nvSpPr>
        <p:spPr>
          <a:xfrm>
            <a:off x="1143000" y="1643040"/>
            <a:ext cx="7786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Анализ результатов  выпускных экзаменов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ыявление проблем качественной подготовки выпускников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Определение алгоритма по преодолению проблем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Изучение  документов, регламентирующих разработку КИМ ЕГЭ: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TextBox 5"/>
          <p:cNvSpPr/>
          <p:nvPr/>
        </p:nvSpPr>
        <p:spPr>
          <a:xfrm>
            <a:off x="3214800" y="3286080"/>
            <a:ext cx="3357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кодификатор,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пецификация,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демоверсия,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методические письма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3" name="TextBox 6"/>
          <p:cNvSpPr/>
          <p:nvPr/>
        </p:nvSpPr>
        <p:spPr>
          <a:xfrm>
            <a:off x="1214280" y="4857840"/>
            <a:ext cx="685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Georgi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Анализ  и маркировка программ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Georgi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Корректировка тематического планирования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Georgi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оставление  плана работы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Georgi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Анализ деятельности ШМО  и подведение итогов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4" name="Picture 2" descr="http://im4-tub.yandex.net/i?id=110073442&amp;tov=4"/>
          <p:cNvPicPr/>
          <p:nvPr/>
        </p:nvPicPr>
        <p:blipFill>
          <a:blip r:embed="rId1"/>
          <a:stretch/>
        </p:blipFill>
        <p:spPr>
          <a:xfrm>
            <a:off x="0" y="714240"/>
            <a:ext cx="976320" cy="70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143000" y="49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2314"/>
                </a:solidFill>
                <a:latin typeface="Georgia"/>
              </a:rPr>
              <a:t>Типичные затруднения</a:t>
            </a:r>
            <a:br>
              <a:rPr sz="3000"/>
            </a:br>
            <a:endParaRPr b="0" lang="en-US" sz="3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TextBox 5"/>
          <p:cNvSpPr/>
          <p:nvPr/>
        </p:nvSpPr>
        <p:spPr>
          <a:xfrm>
            <a:off x="6215040" y="1714680"/>
            <a:ext cx="2786040" cy="978120"/>
          </a:xfrm>
          <a:prstGeom prst="foldedCorner">
            <a:avLst>
              <a:gd name="adj" fmla="val 16666"/>
            </a:avLst>
          </a:prstGeom>
          <a:solidFill>
            <a:srgbClr val="fed46c"/>
          </a:solidFill>
          <a:ln w="9360">
            <a:solidFill>
              <a:srgbClr val="feb80a"/>
            </a:solidFill>
            <a:miter/>
          </a:ln>
          <a:effectLst>
            <a:outerShdw dist="1260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ычислительные навык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TextBox 6"/>
          <p:cNvSpPr/>
          <p:nvPr/>
        </p:nvSpPr>
        <p:spPr>
          <a:xfrm>
            <a:off x="142920" y="1714680"/>
            <a:ext cx="3000240" cy="978120"/>
          </a:xfrm>
          <a:prstGeom prst="foldedCorner">
            <a:avLst>
              <a:gd name="adj" fmla="val 16666"/>
            </a:avLst>
          </a:prstGeom>
          <a:solidFill>
            <a:srgbClr val="fed46c"/>
          </a:solidFill>
          <a:ln w="9360">
            <a:solidFill>
              <a:srgbClr val="feb80a"/>
            </a:solidFill>
            <a:miter/>
          </a:ln>
          <a:effectLst>
            <a:outerShdw dist="1260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евнимательное чтение текст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8" name="Блок-схема: альтернативный процесс 8"/>
          <p:cNvSpPr/>
          <p:nvPr/>
        </p:nvSpPr>
        <p:spPr>
          <a:xfrm>
            <a:off x="2500200" y="2786040"/>
            <a:ext cx="4071960" cy="1785960"/>
          </a:xfrm>
          <a:prstGeom prst="flowChartAlternateProcess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TextBox 7"/>
          <p:cNvSpPr/>
          <p:nvPr/>
        </p:nvSpPr>
        <p:spPr>
          <a:xfrm>
            <a:off x="2000160" y="5072040"/>
            <a:ext cx="5357880" cy="1411560"/>
          </a:xfrm>
          <a:prstGeom prst="foldedCorner">
            <a:avLst>
              <a:gd name="adj" fmla="val 16666"/>
            </a:avLst>
          </a:prstGeom>
          <a:solidFill>
            <a:srgbClr val="fed46c"/>
          </a:solidFill>
          <a:ln w="9360">
            <a:solidFill>
              <a:srgbClr val="feb80a"/>
            </a:solidFill>
            <a:miter/>
          </a:ln>
          <a:effectLst>
            <a:outerShdw dist="1260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Соблюдение языковых норм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Стрелка вверх 9"/>
          <p:cNvSpPr/>
          <p:nvPr/>
        </p:nvSpPr>
        <p:spPr>
          <a:xfrm rot="19407600">
            <a:off x="2643120" y="2279520"/>
            <a:ext cx="285840" cy="655920"/>
          </a:xfrm>
          <a:prstGeom prst="upArrow">
            <a:avLst>
              <a:gd name="adj1" fmla="val 50000"/>
              <a:gd name="adj2" fmla="val 4991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Стрелка вверх 10"/>
          <p:cNvSpPr/>
          <p:nvPr/>
        </p:nvSpPr>
        <p:spPr>
          <a:xfrm rot="13037400">
            <a:off x="4170240" y="4305240"/>
            <a:ext cx="285840" cy="657360"/>
          </a:xfrm>
          <a:prstGeom prst="upArrow">
            <a:avLst>
              <a:gd name="adj1" fmla="val 50000"/>
              <a:gd name="adj2" fmla="val 50019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2" name="Стрелка вверх 14"/>
          <p:cNvSpPr/>
          <p:nvPr/>
        </p:nvSpPr>
        <p:spPr>
          <a:xfrm rot="2877600">
            <a:off x="6257520" y="2387520"/>
            <a:ext cx="285840" cy="657360"/>
          </a:xfrm>
          <a:prstGeom prst="upArrow">
            <a:avLst>
              <a:gd name="adj1" fmla="val 50000"/>
              <a:gd name="adj2" fmla="val 50019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Использование новых УМК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99680" y="1447560"/>
            <a:ext cx="8434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ая система развивающего обучения математике Н.Б.Истоминой направлена на формирование приёмов умственной деятельности и усиление содержательного аспекта обучения, на формирование общих способов действий, что способствует развитию вычислительной культуры- основы овладения прочными и осознанными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числительными навыками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торые станут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даментом обучения в основном звене, а также необходимыми для применения в жизни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Corbel"/>
              </a:rPr>
              <a:t>Учебно-методический комплекс раздела</a:t>
            </a:r>
            <a:br>
              <a:rPr sz="2800"/>
            </a:br>
            <a:r>
              <a:rPr b="1" lang="ru-RU" sz="2400" spc="-1" strike="noStrike">
                <a:solidFill>
                  <a:srgbClr val="572314"/>
                </a:solidFill>
                <a:latin typeface="Corbel"/>
              </a:rPr>
              <a:t>Материалы для подготовки занятий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6" name="Содержимое 3" descr="9165.jpg"/>
          <p:cNvPicPr/>
          <p:nvPr/>
        </p:nvPicPr>
        <p:blipFill>
          <a:blip r:embed="rId1"/>
          <a:stretch/>
        </p:blipFill>
        <p:spPr>
          <a:xfrm rot="753600">
            <a:off x="7503840" y="1483920"/>
            <a:ext cx="1412640" cy="2246400"/>
          </a:xfrm>
          <a:prstGeom prst="rect">
            <a:avLst/>
          </a:prstGeom>
          <a:ln w="0">
            <a:noFill/>
          </a:ln>
        </p:spPr>
      </p:pic>
      <p:pic>
        <p:nvPicPr>
          <p:cNvPr id="337" name="Рисунок 5" descr="1000238463.jpg"/>
          <p:cNvPicPr/>
          <p:nvPr/>
        </p:nvPicPr>
        <p:blipFill>
          <a:blip r:embed="rId2"/>
          <a:stretch/>
        </p:blipFill>
        <p:spPr>
          <a:xfrm rot="20919000">
            <a:off x="449280" y="1454040"/>
            <a:ext cx="1149480" cy="1611360"/>
          </a:xfrm>
          <a:prstGeom prst="rect">
            <a:avLst/>
          </a:prstGeom>
          <a:ln w="0">
            <a:noFill/>
          </a:ln>
        </p:spPr>
      </p:pic>
      <p:pic>
        <p:nvPicPr>
          <p:cNvPr id="338" name="Рисунок 7" descr="25000220508.jpg"/>
          <p:cNvPicPr/>
          <p:nvPr/>
        </p:nvPicPr>
        <p:blipFill>
          <a:blip r:embed="rId3"/>
          <a:stretch/>
        </p:blipFill>
        <p:spPr>
          <a:xfrm rot="1194000">
            <a:off x="7120080" y="3387600"/>
            <a:ext cx="1404720" cy="2206800"/>
          </a:xfrm>
          <a:prstGeom prst="rect">
            <a:avLst/>
          </a:prstGeom>
          <a:ln w="0">
            <a:noFill/>
          </a:ln>
        </p:spPr>
      </p:pic>
      <p:pic>
        <p:nvPicPr>
          <p:cNvPr id="339" name="Рисунок 10" descr="1015629.jpg"/>
          <p:cNvPicPr/>
          <p:nvPr/>
        </p:nvPicPr>
        <p:blipFill>
          <a:blip r:embed="rId4"/>
          <a:stretch/>
        </p:blipFill>
        <p:spPr>
          <a:xfrm rot="20914800">
            <a:off x="161640" y="2538360"/>
            <a:ext cx="1290600" cy="1771560"/>
          </a:xfrm>
          <a:prstGeom prst="rect">
            <a:avLst/>
          </a:prstGeom>
          <a:ln w="0">
            <a:noFill/>
          </a:ln>
        </p:spPr>
      </p:pic>
      <p:pic>
        <p:nvPicPr>
          <p:cNvPr id="340" name="Рисунок 13" descr="top808880.jpg"/>
          <p:cNvPicPr/>
          <p:nvPr/>
        </p:nvPicPr>
        <p:blipFill>
          <a:blip r:embed="rId5"/>
          <a:stretch/>
        </p:blipFill>
        <p:spPr>
          <a:xfrm rot="20419800">
            <a:off x="530280" y="3792240"/>
            <a:ext cx="1182600" cy="1803240"/>
          </a:xfrm>
          <a:prstGeom prst="rect">
            <a:avLst/>
          </a:prstGeom>
          <a:ln w="0">
            <a:noFill/>
          </a:ln>
        </p:spPr>
      </p:pic>
      <p:sp>
        <p:nvSpPr>
          <p:cNvPr id="341" name="Прямоугольник 14"/>
          <p:cNvSpPr/>
          <p:nvPr/>
        </p:nvSpPr>
        <p:spPr>
          <a:xfrm>
            <a:off x="2413080" y="3286080"/>
            <a:ext cx="43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Прямоугольник 15"/>
          <p:cNvSpPr/>
          <p:nvPr/>
        </p:nvSpPr>
        <p:spPr>
          <a:xfrm>
            <a:off x="1285920" y="1357200"/>
            <a:ext cx="6572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Н.Б. Истомина Программа к курсу Математика» для 1-4 классов общеобразовательных учреждений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Прямоугольник 16"/>
          <p:cNvSpPr/>
          <p:nvPr/>
        </p:nvSpPr>
        <p:spPr>
          <a:xfrm>
            <a:off x="1500120" y="200016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Истомина Н.Б. Математика. 2 класс: учебник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4" name="Прямоугольник 17"/>
          <p:cNvSpPr/>
          <p:nvPr/>
        </p:nvSpPr>
        <p:spPr>
          <a:xfrm>
            <a:off x="1500120" y="2357280"/>
            <a:ext cx="6000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Истомина Н.Б. Математика: методические рекомендации к учебнику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Прямоугольник 18"/>
          <p:cNvSpPr/>
          <p:nvPr/>
        </p:nvSpPr>
        <p:spPr>
          <a:xfrm>
            <a:off x="1000080" y="3071880"/>
            <a:ext cx="678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С.В.Попова «Уроки математической «Гармонии</a:t>
            </a: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Прямоугольник 19"/>
          <p:cNvSpPr/>
          <p:nvPr/>
        </p:nvSpPr>
        <p:spPr>
          <a:xfrm>
            <a:off x="1571760" y="3478320"/>
            <a:ext cx="5357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Истомина Н.Б., Шмырева Г.Г.Математика: контрольные работы. 2 класс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Прямоугольник 20"/>
          <p:cNvSpPr/>
          <p:nvPr/>
        </p:nvSpPr>
        <p:spPr>
          <a:xfrm>
            <a:off x="2000160" y="4214880"/>
            <a:ext cx="485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Истомина Н.Б., Редько З.Б. Тетрадь по математике. 2 класс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8" name="Рисунок 8" descr="1000592153.jpg"/>
          <p:cNvPicPr/>
          <p:nvPr/>
        </p:nvPicPr>
        <p:blipFill>
          <a:blip r:embed="rId6"/>
          <a:stretch/>
        </p:blipFill>
        <p:spPr>
          <a:xfrm rot="1620000">
            <a:off x="5846400" y="4865400"/>
            <a:ext cx="1214280" cy="1816200"/>
          </a:xfrm>
          <a:prstGeom prst="rect">
            <a:avLst/>
          </a:prstGeom>
          <a:ln w="0">
            <a:noFill/>
          </a:ln>
        </p:spPr>
      </p:pic>
      <p:pic>
        <p:nvPicPr>
          <p:cNvPr id="349" name="Рисунок 9" descr="1000588584.jpg"/>
          <p:cNvPicPr/>
          <p:nvPr/>
        </p:nvPicPr>
        <p:blipFill>
          <a:blip r:embed="rId7"/>
          <a:stretch/>
        </p:blipFill>
        <p:spPr>
          <a:xfrm rot="19825800">
            <a:off x="1360440" y="4886280"/>
            <a:ext cx="1227240" cy="1784520"/>
          </a:xfrm>
          <a:prstGeom prst="rect">
            <a:avLst/>
          </a:prstGeom>
          <a:ln w="0">
            <a:noFill/>
          </a:ln>
        </p:spPr>
      </p:pic>
      <p:grpSp>
        <p:nvGrpSpPr>
          <p:cNvPr id="350" name="Rectangle 17"/>
          <p:cNvGrpSpPr/>
          <p:nvPr/>
        </p:nvGrpSpPr>
        <p:grpSpPr>
          <a:xfrm>
            <a:off x="2700360" y="5321160"/>
            <a:ext cx="2951280" cy="1305000"/>
            <a:chOff x="2700360" y="5321160"/>
            <a:chExt cx="2951280" cy="1305000"/>
          </a:xfrm>
        </p:grpSpPr>
        <p:pic>
          <p:nvPicPr>
            <p:cNvPr id="351" name="Rectangle 17" descr=""/>
            <p:cNvPicPr/>
            <p:nvPr/>
          </p:nvPicPr>
          <p:blipFill>
            <a:blip r:embed="rId8"/>
            <a:stretch/>
          </p:blipFill>
          <p:spPr>
            <a:xfrm>
              <a:off x="2700360" y="5321160"/>
              <a:ext cx="2951280" cy="13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2928960" y="5451840"/>
              <a:ext cx="26431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МК </a:t>
              </a:r>
              <a:r>
                <a:rPr b="0" lang="ru-RU" sz="3200" spc="-1" strike="noStrike">
                  <a:solidFill>
                    <a:srgbClr val="000000"/>
                  </a:solidFill>
                  <a:latin typeface="Corbel"/>
                  <a:ea typeface="Times New Roman"/>
                </a:rPr>
                <a:t>«</a:t>
              </a: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армония</a:t>
              </a:r>
              <a:r>
                <a:rPr b="0" lang="ru-RU" sz="3200" spc="-1" strike="noStrike">
                  <a:solidFill>
                    <a:srgbClr val="000000"/>
                  </a:solidFill>
                  <a:latin typeface="Corbel"/>
                  <a:ea typeface="Times New Roman"/>
                </a:rPr>
                <a:t>»</a:t>
              </a:r>
              <a:endParaRPr b="0" lang="en-US" sz="32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pic>
        <p:nvPicPr>
          <p:cNvPr id="353" name="Рисунок 17" descr="648128.jpg"/>
          <p:cNvPicPr/>
          <p:nvPr/>
        </p:nvPicPr>
        <p:blipFill>
          <a:blip r:embed="rId9"/>
          <a:stretch/>
        </p:blipFill>
        <p:spPr>
          <a:xfrm rot="1789800">
            <a:off x="7173720" y="5038560"/>
            <a:ext cx="1271520" cy="1609920"/>
          </a:xfrm>
          <a:prstGeom prst="rect">
            <a:avLst/>
          </a:prstGeom>
          <a:ln w="0">
            <a:noFill/>
          </a:ln>
        </p:spPr>
      </p:pic>
      <p:sp>
        <p:nvSpPr>
          <p:cNvPr id="354" name="Rectangle 18"/>
          <p:cNvSpPr/>
          <p:nvPr/>
        </p:nvSpPr>
        <p:spPr>
          <a:xfrm>
            <a:off x="1857240" y="4788360"/>
            <a:ext cx="442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Истомина Н.Б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  <a:ea typeface="Times New Roman"/>
              </a:rPr>
              <a:t>Учимся решать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  <a:ea typeface="Times New Roman"/>
              </a:rPr>
              <a:t>задачи 2 кл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71360" y="213840"/>
            <a:ext cx="80722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2314"/>
                </a:solidFill>
                <a:latin typeface="Corbel"/>
              </a:rPr>
              <a:t>Приоритет на всех этапах усвоения математического содержания отдаётся </a:t>
            </a:r>
            <a:r>
              <a:rPr b="0" lang="ru-RU" sz="2400" spc="-1" strike="noStrike" u="sng">
                <a:solidFill>
                  <a:srgbClr val="572314"/>
                </a:solidFill>
                <a:uFillTx/>
                <a:latin typeface="Corbel"/>
              </a:rPr>
              <a:t>обучающим заданиям</a:t>
            </a:r>
            <a:br>
              <a:rPr sz="2200"/>
            </a:br>
            <a:r>
              <a:rPr b="0" lang="ru-RU" sz="2200" spc="-1" strike="noStrike">
                <a:solidFill>
                  <a:srgbClr val="572314"/>
                </a:solidFill>
                <a:latin typeface="Corbel"/>
              </a:rPr>
              <a:t> </a:t>
            </a:r>
            <a:endParaRPr b="0" lang="en-US" sz="2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857480" y="1500120"/>
            <a:ext cx="3786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orbel"/>
              </a:rPr>
              <a:t>Например №70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rbel"/>
              </a:rPr>
              <a:t>а) По какому признаку фигуры разбили на две группы?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rbel"/>
              </a:rPr>
              <a:t>б) Выбери выражения, которые соответствуют каждому рисунку, и объясни, что они обозначают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rbel"/>
              </a:rPr>
              <a:t>        </a:t>
            </a:r>
            <a:r>
              <a:rPr b="0" lang="ru-RU" sz="1700" spc="-1" strike="noStrike">
                <a:solidFill>
                  <a:srgbClr val="000000"/>
                </a:solidFill>
                <a:latin typeface="Corbel"/>
              </a:rPr>
              <a:t>9 + 3      12-5      12-9      12-3      12-7     7 + 5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357" name="Прямоугольник 3"/>
          <p:cNvGrpSpPr/>
          <p:nvPr/>
        </p:nvGrpSpPr>
        <p:grpSpPr>
          <a:xfrm>
            <a:off x="944640" y="1755720"/>
            <a:ext cx="2706480" cy="993960"/>
            <a:chOff x="944640" y="1755720"/>
            <a:chExt cx="2706480" cy="993960"/>
          </a:xfrm>
        </p:grpSpPr>
        <p:pic>
          <p:nvPicPr>
            <p:cNvPr id="358" name="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944640" y="1755720"/>
              <a:ext cx="270648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1143000" y="1857240"/>
              <a:ext cx="242892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orbel"/>
                </a:rPr>
                <a:t>развивающие</a:t>
              </a:r>
              <a:endParaRPr b="0" lang="en-US" sz="2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360" name="Прямоугольник 5"/>
          <p:cNvSpPr/>
          <p:nvPr/>
        </p:nvSpPr>
        <p:spPr>
          <a:xfrm flipH="1">
            <a:off x="1785240" y="3286080"/>
            <a:ext cx="2428920" cy="85716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ариативные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Прямоугольник 6"/>
          <p:cNvSpPr/>
          <p:nvPr/>
        </p:nvSpPr>
        <p:spPr>
          <a:xfrm>
            <a:off x="1571760" y="4714920"/>
            <a:ext cx="3786120" cy="85716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дифференцированные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Стрелка вверх 7"/>
          <p:cNvSpPr/>
          <p:nvPr/>
        </p:nvSpPr>
        <p:spPr>
          <a:xfrm>
            <a:off x="2214720" y="2643120"/>
            <a:ext cx="484200" cy="571680"/>
          </a:xfrm>
          <a:prstGeom prst="upArrow">
            <a:avLst>
              <a:gd name="adj1" fmla="val 50000"/>
              <a:gd name="adj2" fmla="val 50058"/>
            </a:avLst>
          </a:prstGeom>
          <a:solidFill>
            <a:srgbClr val="3891a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3" name="Стрелка вниз 8"/>
          <p:cNvSpPr/>
          <p:nvPr/>
        </p:nvSpPr>
        <p:spPr>
          <a:xfrm>
            <a:off x="2428920" y="4143240"/>
            <a:ext cx="484200" cy="571680"/>
          </a:xfrm>
          <a:prstGeom prst="downArrow">
            <a:avLst>
              <a:gd name="adj1" fmla="val 50000"/>
              <a:gd name="adj2" fmla="val 50058"/>
            </a:avLst>
          </a:prstGeom>
          <a:solidFill>
            <a:srgbClr val="3891a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4" name="Picture 19" descr=""/>
          <p:cNvPicPr/>
          <p:nvPr/>
        </p:nvPicPr>
        <p:blipFill>
          <a:blip r:embed="rId2"/>
          <a:stretch/>
        </p:blipFill>
        <p:spPr>
          <a:xfrm>
            <a:off x="5143680" y="2643120"/>
            <a:ext cx="328608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71360" y="500040"/>
            <a:ext cx="735804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72314"/>
                </a:solidFill>
                <a:latin typeface="Corbel"/>
              </a:rPr>
              <a:t>Каждая контрольная представлена  на трех уровнях, что позволяет организовывать дифференцированное обучение</a:t>
            </a:r>
            <a:endParaRPr b="0" lang="en-US" sz="2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6" name="Прямоугольник 6"/>
          <p:cNvSpPr/>
          <p:nvPr/>
        </p:nvSpPr>
        <p:spPr>
          <a:xfrm flipV="1" rot="10800000">
            <a:off x="857160" y="5854320"/>
            <a:ext cx="750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357120" y="2000160"/>
            <a:ext cx="4500720" cy="39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с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8" name="Выноска со стрелкой вниз 6"/>
          <p:cNvSpPr/>
          <p:nvPr/>
        </p:nvSpPr>
        <p:spPr>
          <a:xfrm>
            <a:off x="428760" y="1785960"/>
            <a:ext cx="3643200" cy="1000080"/>
          </a:xfrm>
          <a:prstGeom prst="downArrowCallout">
            <a:avLst>
              <a:gd name="adj1" fmla="val 24997"/>
              <a:gd name="adj2" fmla="val 24994"/>
              <a:gd name="adj3" fmla="val 25000"/>
              <a:gd name="adj4" fmla="val 64977"/>
            </a:avLst>
          </a:prstGeom>
          <a:solidFill>
            <a:srgbClr val="3891a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репродуктивные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9" name="Рисунок 9" descr="Изображение 001.jpg"/>
          <p:cNvPicPr/>
          <p:nvPr/>
        </p:nvPicPr>
        <p:blipFill>
          <a:blip r:embed="rId1"/>
          <a:stretch/>
        </p:blipFill>
        <p:spPr>
          <a:xfrm>
            <a:off x="4643280" y="2786040"/>
            <a:ext cx="3786480" cy="3000240"/>
          </a:xfrm>
          <a:prstGeom prst="rect">
            <a:avLst/>
          </a:prstGeom>
          <a:ln w="0">
            <a:noFill/>
          </a:ln>
        </p:spPr>
      </p:pic>
      <p:pic>
        <p:nvPicPr>
          <p:cNvPr id="370" name="Рисунок 6" descr="top808880.jpg"/>
          <p:cNvPicPr/>
          <p:nvPr/>
        </p:nvPicPr>
        <p:blipFill>
          <a:blip r:embed="rId2"/>
          <a:stretch/>
        </p:blipFill>
        <p:spPr>
          <a:xfrm rot="485400">
            <a:off x="7135920" y="1087200"/>
            <a:ext cx="1373040" cy="200952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10"/>
          <p:cNvSpPr/>
          <p:nvPr/>
        </p:nvSpPr>
        <p:spPr>
          <a:xfrm flipV="1" rot="10800000">
            <a:off x="642600" y="4928040"/>
            <a:ext cx="828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2" name="Прямоугольник 14"/>
          <p:cNvSpPr/>
          <p:nvPr/>
        </p:nvSpPr>
        <p:spPr>
          <a:xfrm>
            <a:off x="4857840" y="4286160"/>
            <a:ext cx="27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3" name="Прямоугольник 17"/>
          <p:cNvSpPr/>
          <p:nvPr/>
        </p:nvSpPr>
        <p:spPr>
          <a:xfrm>
            <a:off x="500040" y="3929040"/>
            <a:ext cx="3714840" cy="78588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  <a:ea typeface="Times New Roman"/>
              </a:rPr>
              <a:t>творческие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Выноска со стрелкой вниз 18"/>
          <p:cNvSpPr/>
          <p:nvPr/>
        </p:nvSpPr>
        <p:spPr>
          <a:xfrm>
            <a:off x="428760" y="2857680"/>
            <a:ext cx="3714480" cy="1000080"/>
          </a:xfrm>
          <a:prstGeom prst="downArrowCallout">
            <a:avLst>
              <a:gd name="adj1" fmla="val 25004"/>
              <a:gd name="adj2" fmla="val 25002"/>
              <a:gd name="adj3" fmla="val 25000"/>
              <a:gd name="adj4" fmla="val 64977"/>
            </a:avLst>
          </a:prstGeom>
          <a:solidFill>
            <a:srgbClr val="3891a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частично-поисковые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Прямоугольник 20"/>
          <p:cNvSpPr/>
          <p:nvPr/>
        </p:nvSpPr>
        <p:spPr>
          <a:xfrm>
            <a:off x="357120" y="0"/>
            <a:ext cx="757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orbel"/>
              </a:rPr>
              <a:t>Контролирующие задания</a:t>
            </a:r>
            <a:r>
              <a:rPr b="0" lang="ru-RU" sz="2800" spc="-1" strike="noStrike">
                <a:solidFill>
                  <a:srgbClr val="7030a0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Прямоугольник 12"/>
          <p:cNvSpPr/>
          <p:nvPr/>
        </p:nvSpPr>
        <p:spPr>
          <a:xfrm>
            <a:off x="571680" y="5286240"/>
            <a:ext cx="3643200" cy="91440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тест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Прямоугольник 2"/>
          <p:cNvSpPr/>
          <p:nvPr/>
        </p:nvSpPr>
        <p:spPr>
          <a:xfrm>
            <a:off x="1214280" y="2286000"/>
            <a:ext cx="45720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Метод простого наблюдения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Прямоугольник 3"/>
          <p:cNvSpPr/>
          <p:nvPr/>
        </p:nvSpPr>
        <p:spPr>
          <a:xfrm>
            <a:off x="1357200" y="285840"/>
            <a:ext cx="671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Corbel"/>
              </a:rPr>
              <a:t>Диагностические материалы и методика диагностик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379" name="Прямоугольник 4"/>
          <p:cNvGrpSpPr/>
          <p:nvPr/>
        </p:nvGrpSpPr>
        <p:grpSpPr>
          <a:xfrm>
            <a:off x="365040" y="1427040"/>
            <a:ext cx="8218440" cy="882720"/>
            <a:chOff x="365040" y="1427040"/>
            <a:chExt cx="8218440" cy="882720"/>
          </a:xfrm>
        </p:grpSpPr>
        <p:pic>
          <p:nvPicPr>
            <p:cNvPr id="380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365040" y="1427040"/>
              <a:ext cx="8218440" cy="88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"/>
            <p:cNvSpPr/>
            <p:nvPr/>
          </p:nvSpPr>
          <p:spPr>
            <a:xfrm>
              <a:off x="500040" y="1500120"/>
              <a:ext cx="8001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rbel"/>
                </a:rPr>
                <a:t>Систематическое наблюдение учителя за своими учениками уже является диагностической деятельностью. </a:t>
              </a:r>
              <a:endParaRPr b="0" lang="en-US" sz="20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382" name="Стрелка вниз 7"/>
          <p:cNvSpPr/>
          <p:nvPr/>
        </p:nvSpPr>
        <p:spPr>
          <a:xfrm>
            <a:off x="928800" y="2143080"/>
            <a:ext cx="484200" cy="500040"/>
          </a:xfrm>
          <a:prstGeom prst="downArrow">
            <a:avLst>
              <a:gd name="adj1" fmla="val 50000"/>
              <a:gd name="adj2" fmla="val 50043"/>
            </a:avLst>
          </a:prstGeom>
          <a:solidFill>
            <a:srgbClr val="3891a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383" name="Прямоугольник 8"/>
          <p:cNvGrpSpPr/>
          <p:nvPr/>
        </p:nvGrpSpPr>
        <p:grpSpPr>
          <a:xfrm>
            <a:off x="438120" y="2925720"/>
            <a:ext cx="7785000" cy="884160"/>
            <a:chOff x="438120" y="2925720"/>
            <a:chExt cx="7785000" cy="884160"/>
          </a:xfrm>
        </p:grpSpPr>
        <p:pic>
          <p:nvPicPr>
            <p:cNvPr id="384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38120" y="2925720"/>
              <a:ext cx="7785000" cy="88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571680" y="3000240"/>
              <a:ext cx="7572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rbel"/>
                </a:rPr>
                <a:t>Диагностирование качества усвоения учащимися  учебного материала</a:t>
              </a:r>
              <a:endParaRPr b="0" lang="en-US" sz="20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386" name="Прямоугольник 9"/>
          <p:cNvSpPr/>
          <p:nvPr/>
        </p:nvSpPr>
        <p:spPr>
          <a:xfrm flipV="1" rot="10800000">
            <a:off x="1357200" y="4636440"/>
            <a:ext cx="57866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8dc765"/>
                </a:solidFill>
                <a:uFillTx/>
                <a:latin typeface="Corbel"/>
                <a:hlinkClick r:id="rId3"/>
              </a:rPr>
              <a:t>Заполнение диагностических карт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Прямоугольник 10"/>
          <p:cNvSpPr/>
          <p:nvPr/>
        </p:nvSpPr>
        <p:spPr>
          <a:xfrm>
            <a:off x="1000080" y="4357800"/>
            <a:ext cx="628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Анализ самостоятельных и контрольных работ 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8" name="Стрелка вниз 11"/>
          <p:cNvSpPr/>
          <p:nvPr/>
        </p:nvSpPr>
        <p:spPr>
          <a:xfrm>
            <a:off x="3500280" y="4000680"/>
            <a:ext cx="48420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891a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9" name=""/>
          <p:cNvGraphicFramePr/>
          <p:nvPr/>
        </p:nvGraphicFramePr>
        <p:xfrm>
          <a:off x="142920" y="214200"/>
          <a:ext cx="8858160" cy="6429600"/>
        </p:xfrm>
        <a:graphic>
          <a:graphicData uri="http://schemas.openxmlformats.org/drawingml/2006/table">
            <a:tbl>
              <a:tblPr/>
              <a:tblGrid>
                <a:gridCol w="654120"/>
                <a:gridCol w="135360"/>
                <a:gridCol w="3219840"/>
                <a:gridCol w="301680"/>
                <a:gridCol w="299880"/>
                <a:gridCol w="301680"/>
                <a:gridCol w="446040"/>
                <a:gridCol w="343080"/>
                <a:gridCol w="344520"/>
                <a:gridCol w="411120"/>
                <a:gridCol w="480960"/>
                <a:gridCol w="480960"/>
                <a:gridCol w="274680"/>
                <a:gridCol w="479520"/>
                <a:gridCol w="344520"/>
                <a:gridCol w="340200"/>
              </a:tblGrid>
              <a:tr h="230400">
                <a:tc gridSpan="2" rowSpan="2"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2e04"/>
                          </a:solidFill>
                          <a:latin typeface="Calibri"/>
                          <a:ea typeface="Calibri"/>
                        </a:rPr>
                        <a:t>Балл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749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2e04"/>
                          </a:solidFill>
                          <a:latin typeface="Calibri"/>
                          <a:ea typeface="Calibri"/>
                        </a:rPr>
                        <a:t>Виды работы на уроке</a:t>
                      </a:r>
                      <a:r>
                        <a:rPr b="0" lang="ru-RU" sz="1200" spc="-1" strike="noStrike">
                          <a:solidFill>
                            <a:srgbClr val="602e04"/>
                          </a:solidFill>
                          <a:latin typeface="Calibri"/>
                          <a:ea typeface="Calibri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lIns="49680" rIns="49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749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32d47"/>
                          </a:solidFill>
                          <a:latin typeface="Calibri"/>
                          <a:ea typeface="Calibri"/>
                        </a:rPr>
                        <a:t>№  </a:t>
                      </a:r>
                      <a:r>
                        <a:rPr b="0" lang="ru-RU" sz="1200" spc="-1" strike="noStrike">
                          <a:solidFill>
                            <a:srgbClr val="232d47"/>
                          </a:solidFill>
                          <a:latin typeface="Calibri"/>
                          <a:ea typeface="Calibri"/>
                        </a:rPr>
                        <a:t>Фамилии учащихся в журна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749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32d47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232d47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32d47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32d47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32d47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32d47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32d47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32d47"/>
                          </a:solidFill>
                          <a:latin typeface="Calibri"/>
                          <a:ea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32d47"/>
                          </a:solidFill>
                          <a:latin typeface="Calibri"/>
                          <a:ea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32d47"/>
                          </a:solidFill>
                          <a:latin typeface="Calibri"/>
                          <a:ea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32d47"/>
                          </a:solidFill>
                          <a:latin typeface="Calibri"/>
                          <a:ea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32d47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232d47"/>
                          </a:solidFill>
                          <a:latin typeface="Calibri"/>
                          <a:ea typeface="Calibri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32d47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232d47"/>
                          </a:solidFill>
                          <a:latin typeface="Calibri"/>
                          <a:ea typeface="Calibri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32d47"/>
                          </a:solidFill>
                          <a:latin typeface="Calibri"/>
                          <a:ea typeface="Calibri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3">
                  <a:txBody>
                    <a:bodyPr lIns="49680" rIns="49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749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602e04"/>
                          </a:solidFill>
                          <a:latin typeface="Calibri"/>
                          <a:ea typeface="Calibri"/>
                        </a:rPr>
                        <a:t>1. Восприятие информ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749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602e04"/>
                          </a:solidFill>
                          <a:latin typeface="Calibri"/>
                          <a:ea typeface="Calibri"/>
                        </a:rPr>
                        <a:t>1.1. Устную инструкцию воспринимает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400"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2e04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602e04"/>
                          </a:solidFill>
                          <a:latin typeface="Calibri"/>
                          <a:ea typeface="Calibri"/>
                        </a:rPr>
                        <a:t>с первого предъявления</a:t>
                      </a:r>
                      <a:r>
                        <a:rPr b="0" lang="ru-RU" sz="1000" spc="-1" strike="noStrike">
                          <a:solidFill>
                            <a:srgbClr val="602e04"/>
                          </a:solidFill>
                          <a:latin typeface="Calibri"/>
                          <a:ea typeface="Calibri"/>
                        </a:rPr>
                        <a:t>	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040"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2e04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602e04"/>
                          </a:solidFill>
                          <a:latin typeface="Calibri"/>
                          <a:ea typeface="Calibri"/>
                        </a:rPr>
                        <a:t>нуждается в дополнительных разъяснениях</a:t>
                      </a:r>
                      <a:r>
                        <a:rPr b="0" lang="ru-RU" sz="1000" spc="-1" strike="noStrike">
                          <a:solidFill>
                            <a:srgbClr val="602e04"/>
                          </a:solidFill>
                          <a:latin typeface="Calibri"/>
                          <a:ea typeface="Calibri"/>
                        </a:rPr>
                        <a:t>	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2e04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602e04"/>
                          </a:solidFill>
                          <a:latin typeface="Calibri"/>
                          <a:ea typeface="Calibri"/>
                        </a:rPr>
                        <a:t>нуждается в пошаговом предъявлении с пошаговым контролем усвоения</a:t>
                      </a:r>
                      <a:r>
                        <a:rPr b="0" lang="ru-RU" sz="1000" spc="-1" strike="noStrike">
                          <a:solidFill>
                            <a:srgbClr val="602e04"/>
                          </a:solidFill>
                          <a:latin typeface="Calibri"/>
                          <a:ea typeface="Calibri"/>
                        </a:rPr>
                        <a:t>	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2e04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602e04"/>
                          </a:solidFill>
                          <a:latin typeface="Calibri"/>
                          <a:ea typeface="Calibri"/>
                        </a:rPr>
                        <a:t>не воспринимает устную инструкцию</a:t>
                      </a:r>
                      <a:r>
                        <a:rPr b="0" lang="ru-RU" sz="1000" spc="-1" strike="noStrike">
                          <a:solidFill>
                            <a:srgbClr val="602e04"/>
                          </a:solidFill>
                          <a:latin typeface="Calibri"/>
                          <a:ea typeface="Calibri"/>
                        </a:rPr>
                        <a:t>	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3"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749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602e04"/>
                          </a:solidFill>
                          <a:latin typeface="Calibri"/>
                          <a:ea typeface="Calibri"/>
                        </a:rPr>
                        <a:t>1.2. Письменную инструкцию (в учебнике, на доске, на карточке и т.п.) воспринимает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040"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2e04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602e04"/>
                          </a:solidFill>
                          <a:latin typeface="Calibri"/>
                          <a:ea typeface="Calibri"/>
                        </a:rPr>
                        <a:t>самостоятельно</a:t>
                      </a:r>
                      <a:r>
                        <a:rPr b="0" lang="ru-RU" sz="1000" spc="-1" strike="noStrike">
                          <a:solidFill>
                            <a:srgbClr val="602e04"/>
                          </a:solidFill>
                          <a:latin typeface="Calibri"/>
                          <a:ea typeface="Calibri"/>
                        </a:rPr>
                        <a:t>	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400"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2e04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602e04"/>
                          </a:solidFill>
                          <a:latin typeface="Calibri"/>
                          <a:ea typeface="Calibri"/>
                        </a:rPr>
                        <a:t>нуждается в разъяснения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2e04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602e04"/>
                          </a:solidFill>
                          <a:latin typeface="Calibri"/>
                          <a:ea typeface="Calibri"/>
                        </a:rPr>
                        <a:t>нуждается в пошаговом предъявлении с пошаговым контролем усво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2e04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602e04"/>
                          </a:solidFill>
                          <a:latin typeface="Calibri"/>
                          <a:ea typeface="Calibri"/>
                        </a:rPr>
                        <a:t>не воспринимает письменную инструкцию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 gridSpan="3">
                  <a:txBody>
                    <a:bodyPr lIns="49680" rIns="49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749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602e04"/>
                          </a:solidFill>
                          <a:latin typeface="Calibri"/>
                          <a:ea typeface="Calibri"/>
                        </a:rPr>
                        <a:t>2. Интеллектуальная обработка информ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749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602e04"/>
                          </a:solidFill>
                          <a:latin typeface="Calibri"/>
                          <a:ea typeface="Calibri"/>
                        </a:rPr>
                        <a:t>2.1. Умеет ли выделять главное в предложенной информации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2e04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602e04"/>
                          </a:solidFill>
                          <a:latin typeface="Calibri"/>
                          <a:ea typeface="Calibri"/>
                        </a:rPr>
                        <a:t>способен выделить самостоятель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2e04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602e04"/>
                          </a:solidFill>
                          <a:latin typeface="Calibri"/>
                          <a:ea typeface="Calibri"/>
                        </a:rPr>
                        <a:t>нуждается в дополнительных (наводящих, уточняющих) вопроса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400"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2e04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602e04"/>
                          </a:solidFill>
                          <a:latin typeface="Calibri"/>
                          <a:ea typeface="Calibri"/>
                        </a:rPr>
                        <a:t>испытывает значительные затруднения</a:t>
                      </a:r>
                      <a:r>
                        <a:rPr b="0" lang="ru-RU" sz="1000" spc="-1" strike="noStrike">
                          <a:solidFill>
                            <a:srgbClr val="602e04"/>
                          </a:solidFill>
                          <a:latin typeface="Calibri"/>
                          <a:ea typeface="Calibri"/>
                        </a:rPr>
                        <a:t>	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040">
                <a:tc gridSpan="3"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749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602e04"/>
                          </a:solidFill>
                          <a:latin typeface="Calibri"/>
                          <a:ea typeface="Calibri"/>
                        </a:rPr>
                        <a:t>2.2. Умеет ли выделять новое в учебном материа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2e04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602e04"/>
                          </a:solidFill>
                          <a:latin typeface="Calibri"/>
                          <a:ea typeface="Calibri"/>
                        </a:rPr>
                        <a:t>способен выделить самостоятельно</a:t>
                      </a:r>
                      <a:r>
                        <a:rPr b="0" lang="ru-RU" sz="1000" spc="-1" strike="noStrike">
                          <a:solidFill>
                            <a:srgbClr val="602e04"/>
                          </a:solidFill>
                          <a:latin typeface="Calibri"/>
                          <a:ea typeface="Calibri"/>
                        </a:rPr>
                        <a:t>	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040"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2e04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602e04"/>
                          </a:solidFill>
                          <a:latin typeface="Calibri"/>
                          <a:ea typeface="Calibri"/>
                        </a:rPr>
                        <a:t>нуждается в помощ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2e04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602e04"/>
                          </a:solidFill>
                          <a:latin typeface="Calibri"/>
                          <a:ea typeface="Calibri"/>
                        </a:rPr>
                        <a:t>испытывает значительные затруднения</a:t>
                      </a:r>
                      <a:r>
                        <a:rPr b="0" lang="ru-RU" sz="1000" spc="-1" strike="noStrike">
                          <a:solidFill>
                            <a:srgbClr val="602e04"/>
                          </a:solidFill>
                          <a:latin typeface="Calibri"/>
                          <a:ea typeface="Calibri"/>
                        </a:rPr>
                        <a:t>	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400">
                <a:tc gridSpan="3"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749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602e04"/>
                          </a:solidFill>
                          <a:latin typeface="Calibri"/>
                          <a:ea typeface="Calibri"/>
                        </a:rPr>
                        <a:t>2.3. Темп интеллектуальной деятельности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040"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2e04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602e04"/>
                          </a:solidFill>
                          <a:latin typeface="Calibri"/>
                          <a:ea typeface="Calibri"/>
                        </a:rPr>
                        <a:t>выше, чем у других учащихся класса</a:t>
                      </a:r>
                      <a:r>
                        <a:rPr b="0" lang="ru-RU" sz="1000" spc="-1" strike="noStrike">
                          <a:solidFill>
                            <a:srgbClr val="602e04"/>
                          </a:solidFill>
                          <a:latin typeface="Calibri"/>
                          <a:ea typeface="Calibri"/>
                        </a:rPr>
                        <a:t>	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2e04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602e04"/>
                          </a:solidFill>
                          <a:latin typeface="Calibri"/>
                          <a:ea typeface="Calibri"/>
                        </a:rPr>
                        <a:t>такой же, как у других учащихся класса</a:t>
                      </a:r>
                      <a:r>
                        <a:rPr b="0" lang="ru-RU" sz="1000" spc="-1" strike="noStrike">
                          <a:solidFill>
                            <a:srgbClr val="602e04"/>
                          </a:solidFill>
                          <a:latin typeface="Calibri"/>
                          <a:ea typeface="Calibri"/>
                        </a:rPr>
                        <a:t>	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400"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2e04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602e04"/>
                          </a:solidFill>
                          <a:latin typeface="Calibri"/>
                          <a:ea typeface="Calibri"/>
                        </a:rPr>
                        <a:t>значительно снижен</a:t>
                      </a:r>
                      <a:r>
                        <a:rPr b="0" lang="ru-RU" sz="1000" spc="-1" strike="noStrike">
                          <a:solidFill>
                            <a:srgbClr val="602e04"/>
                          </a:solidFill>
                          <a:latin typeface="Calibri"/>
                          <a:ea typeface="Calibri"/>
                        </a:rPr>
                        <a:t>	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8T17:40:00Z</dcterms:created>
  <dc:creator>Igor</dc:creator>
  <dc:description/>
  <dc:language>en-US</dc:language>
  <cp:lastModifiedBy>Igor</cp:lastModifiedBy>
  <dcterms:modified xsi:type="dcterms:W3CDTF">2010-10-18T19:52:13Z</dcterms:modified>
  <cp:revision>17</cp:revision>
  <dc:subject/>
  <dc:title>Слайд 1</dc:title>
</cp:coreProperties>
</file>